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807A-5A1E-454A-97C3-53F65B6D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CC08-2319-4439-AC42-B14AFBD1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CCC-8938-461E-9BC7-87BBF9E8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0A0D-56D3-4E64-8919-94885C4D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A300-0056-4E06-AAD5-94A68074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A0B3-C6AD-4BB3-BF9E-4F13A473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E67C-5B28-47F8-B383-CAED4287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193F-7B0E-45B3-9919-F3559196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5597-1E22-438B-BF06-95543972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6A87-ADB5-4143-8442-2B62FC61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ACFD-B7F5-48AE-B58A-AD2939A8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C8F-5554-4517-AE1B-A89C5706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2239-099A-411E-A9A6-BF4A83B1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78D5-1DD4-410B-BBD7-60CB8C5D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16F2-C9AA-4D11-8654-DE820F93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D303-D324-4EF5-B8C8-644D47C7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9370-3540-4EEA-993F-0A5503A6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6441B-73FD-435E-A1C2-BFCAC8E8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98F3A-E1C1-47FC-A589-9DE79B1D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40400-4DFC-4DD2-ACD7-E4406948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B2806-C4FA-4824-AEA1-50DD8C7E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02EE5-404A-4500-8B4E-4B3D93AE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7095-4441-486E-B033-FBB5597F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4DE6A-19AB-48CF-A860-A5C6A4B5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01C98-8E36-436A-A79C-230F16ED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6E336-47CD-42C0-971B-538C2588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77780-C445-4FA3-B861-23276E38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437A9-972D-4AE5-A5DF-AE72FD9A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EC163-A026-4FBC-AAD3-5306CFA8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2E4C1-C1F9-4D0E-A1E4-EA5F8F32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672E9-5481-4E9F-8839-3DA7BBEC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D8FD2-B81E-46B2-90A9-BCE0B25C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1E307-1720-4907-A9FB-2A29829E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A769-86C6-468B-B540-8DFB00B9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57CA6-4BD5-438D-BCE7-D0AE7D14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BD238-EC72-4078-B3BC-8F52EF40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344E8-3EFC-463F-9099-DA373F03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6E924-6DBA-44F1-AB04-9A534CED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0429B-AAD9-4C18-82AC-44F3F9EE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2C00B-FCA1-4E2A-811A-6EBAE084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5233D-B77F-4F3B-B952-9548A3D0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54B7B-789A-4EA2-B2D0-83447977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A92F8-6AC0-46B0-B2AC-15A77941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272FB-0D23-4B0D-AA9F-AE308FF1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ABD3-5D57-4B7B-8939-330AACF8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D25E2-318A-451B-AE6D-7B60C1AE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C2678-CC68-49F5-A8AC-47A1208D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B8416-E957-43B0-92C3-2E70D4E2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36E92-36CE-40E8-94C9-0CC4DE3A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8058D-FFE7-43E6-B28E-7222D35F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91A0A-6D77-4ED6-903E-86169BBE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F699A-1184-4BF1-9E2D-55B2B856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5C3D2-9547-48A4-BA92-19585834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A18ED-A367-44C5-BCD3-2DCB77C7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75022-387B-40C7-B3CC-97315B4A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098-52F5-4590-9E26-18B5B31B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369B7-09C0-49E4-AD4A-6CF9C695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48F-1096-49C5-B449-F97A0B3B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7AA-5E78-4E80-A27F-007D8BE1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64D-9ABD-447A-9C11-D085F6AD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2E49-9274-4CCC-B007-A08A243DAE1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6596-49FC-4C01-8B63-04297EA615B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E926-84CC-4F0B-A384-E22ABE707D2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0299-33B5-4514-83B7-5747CAAF7EA7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DFCB-7C3C-48DB-8C07-1731573B204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530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Destiny Tucker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word clock was first used i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1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century, it’s from the Lati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ord “clocca” which means bel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re’s not one actual inventor of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clock, but there are differen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ventors for the different types of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ock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the early 1750’s, Benjami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anneker invented the first cloc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3" descr="clock.gif"/>
          <p:cNvPicPr/>
          <p:nvPr/>
        </p:nvPicPr>
        <p:blipFill>
          <a:blip r:embed="rId2"/>
          <a:stretch/>
        </p:blipFill>
        <p:spPr>
          <a:xfrm>
            <a:off x="5867280" y="3470400"/>
            <a:ext cx="198144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608960" cy="1150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endulum clock- Christian Huyge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Quartz clock-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rist watc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ototype alarm clock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chanical alarm clock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hristian Huygens made clock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ore accurate when he invent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pendulum clock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3" descr="time8.bmp"/>
          <p:cNvPicPr/>
          <p:nvPr/>
        </p:nvPicPr>
        <p:blipFill>
          <a:blip r:embed="rId2"/>
          <a:stretch/>
        </p:blipFill>
        <p:spPr>
          <a:xfrm>
            <a:off x="6019920" y="1523880"/>
            <a:ext cx="16002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about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Wiki.answers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answers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horlogy-stuff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www.black-inventor.com/Benjamin-Banneker.asp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7:38:53Z</dcterms:created>
  <dc:creator>student</dc:creator>
  <dc:description/>
  <dc:language>en-US</dc:language>
  <cp:lastModifiedBy>Taylor</cp:lastModifiedBy>
  <dcterms:modified xsi:type="dcterms:W3CDTF">2010-09-23T21:39:29Z</dcterms:modified>
  <cp:revision>13</cp:revision>
  <dc:subject/>
  <dc:title>The History of Clocks </dc:title>
</cp:coreProperties>
</file>